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E75-921C-4997-9DB8-18A443FB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D08-68F4-4F83-BF48-5B63ED6C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456-CC59-46CB-9AE4-6CA1CAF8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1D0-653E-486A-9A68-9F4B970F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EF63-8F09-4105-890F-890C80F2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99EF-3CC8-47B1-B290-6A2420F3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4570-5798-4161-B1D6-7D5262E5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4D58-931A-4022-BD35-D47A9E8D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6D41-6D83-4C7B-A16C-C5676541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C2FF-E226-476F-9497-C5686278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D942-D1A8-4B75-99DD-78151E96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7C3-6AD5-449D-A4F6-6DE4892B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BFB9-3C6B-4B7F-B47F-F705BC3A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6B63-5EA8-4B1C-8270-C5AB7846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2235-3892-46D1-9B40-E9D1461D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E7BC-E7CC-4ED9-8AC5-C1EE2D4B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587D-1872-46D0-95C9-B57FDE7E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574E-3E9F-43AC-AE48-49CE0534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3B13-960B-4738-8688-0C8B9045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259C-F1CE-458D-87A8-399F9E8F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F754-4D54-4C91-9806-22958C95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2AB3-CB89-450C-B47E-8B7681EC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DE1-AF6F-4CA1-8566-47B9FBA3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50A85-9FFE-44FD-9372-66E96705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CC39-EB62-4D96-BEF8-91E6D67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17286-EF10-4E92-BEE3-D0FC3CAC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D620E-D671-48D0-A4C0-124F9FB0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906B-03D8-4F8B-95B9-C21DFC47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B0308-8055-4D6A-B4AE-E670C3B8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CB0A3-E001-44DC-9326-A3147971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D9E35-8016-43F2-A5E0-3D8744DE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A0A87-24E4-4C13-A347-E14486AC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F417A-794D-42EA-9BBB-A4FC7C4E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5A6-CB4E-4395-96D2-7A632CFF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FDFEE-524E-4451-B671-78CCD868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07571-0278-4CAB-9619-6BA281B2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799E-4958-4374-BF92-B5789D96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C773-D1DF-4938-B80C-508496B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D3D7-5182-4072-BB2E-107F07C2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6354-FE8D-4B9D-8269-ACCEA782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44490-879F-4838-B2B0-6FDA5CBC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32D05-4E55-42EA-8310-D540997A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1A5D6-1F4B-4CAA-A97F-7C246E41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A51C-64F4-418D-A1A5-0407D9DF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E02-DFEC-4E7B-B4F9-6950F6AE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8216-A610-4B49-8021-CA073745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19B5C-0CF3-4AAC-A95C-E3FE57B6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A587C-7181-480A-BEA3-84DAFBEF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914B-602F-4142-9DC8-0ED678C4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18386-3F81-47AE-89B1-F0AE8E3B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FDA9B-9256-4C05-9A2D-8F3AAE0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7ED00-FD5E-44F1-A484-C2B1C76B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46D85-4DC9-4B4D-921B-704E72F6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6A3EA-076C-47DE-ACBB-B8E4E0CB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168F5-2AC2-4A08-87A8-E1E8A186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5A1-730A-44A0-AB2B-8D00D446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63352-34AB-4CC9-8D9E-51106CB2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F2907-3F5C-4D00-A35F-8883C58E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949C9-A0C3-4754-AD6C-8446DF17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7BDEB-39E6-4AF4-9266-FFA8FCAB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15C4-AC5D-4CF5-AA76-8B008518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77765-F079-49E2-94AC-1E4115B0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DF823-B38A-4359-B8FF-B7CB614D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48E2-5072-4429-837B-4301C9D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CC509-1F05-48D8-BE05-81E743C8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E20B2-DEDE-40BB-84D1-FBC83B8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4F1-6C8A-4B32-BB35-17647F50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5628A-8E95-4C26-BC61-604F76D1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4371-A725-4512-850F-8AE77D39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16D6-0A1C-4480-ABFF-AB500EFF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AD353-F402-443D-9893-F59639C8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AF6AC-8E16-4A0D-83CD-29AAC26F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FFF08-408D-49F1-9C75-A51D272B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8B502-CA10-45A0-97A8-334E8FAF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E05BD-DB04-4F62-B84B-4E533C4C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C445-7A81-4939-B4F6-EB93DD26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F56F7-A551-471D-BC92-9895215F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186-2339-47B6-986B-440358C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7B910-B119-4372-8D86-E5897B8C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D2477-B6E9-498F-BBC9-C2CAFA02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5C208-6179-476F-8FC0-2B592253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5F3E3-BE9D-4EC6-9AA2-E845F42C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1C9D7-2719-45E4-878D-EDF20543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355-A6AB-440E-932F-1622E7ED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56B0-0EC8-4C0B-A45D-B8382AC9264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6B9B-B1D1-4A90-9FFF-51A42CBBA0D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479D-56E4-4FA9-A2A0-A6D6CD0A3DC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C012-7F32-4283-A8F3-6841B3E1B77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4EC8-26D2-409F-A375-C7078D53BDF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19D1-C003-487C-B556-7E30B266182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C6C3-14F2-4E7B-A34D-1256DBFEA1D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38160" y="0"/>
            <a:ext cx="9105840" cy="464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图片1"/>
          <p:cNvPicPr/>
          <p:nvPr/>
        </p:nvPicPr>
        <p:blipFill>
          <a:blip r:embed="rId1"/>
          <a:stretch/>
        </p:blipFill>
        <p:spPr>
          <a:xfrm>
            <a:off x="838080" y="1279440"/>
            <a:ext cx="7391520" cy="5273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QQ截图20121228131942"/>
          <p:cNvPicPr/>
          <p:nvPr/>
        </p:nvPicPr>
        <p:blipFill>
          <a:blip r:embed="rId2"/>
          <a:stretch/>
        </p:blipFill>
        <p:spPr>
          <a:xfrm>
            <a:off x="1066680" y="53352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339" name="WordArt 6"/>
          <p:cNvSpPr txBox="1"/>
          <p:nvPr/>
        </p:nvSpPr>
        <p:spPr>
          <a:xfrm>
            <a:off x="2438280" y="6094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彩云"/>
              </a:rPr>
              <a:t>英语教学课件系列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彩云"/>
              <a:ea typeface="华文彩云"/>
            </a:endParaRPr>
          </a:p>
        </p:txBody>
      </p:sp>
      <p:sp>
        <p:nvSpPr>
          <p:cNvPr id="340" name="WordArt 7"/>
          <p:cNvSpPr txBox="1"/>
          <p:nvPr/>
        </p:nvSpPr>
        <p:spPr>
          <a:xfrm rot="20562000">
            <a:off x="3352680" y="4267080"/>
            <a:ext cx="609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WordArt 8"/>
          <p:cNvSpPr txBox="1"/>
          <p:nvPr/>
        </p:nvSpPr>
        <p:spPr>
          <a:xfrm rot="21002400">
            <a:off x="4191120" y="409536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9"/>
          <p:cNvSpPr txBox="1"/>
          <p:nvPr/>
        </p:nvSpPr>
        <p:spPr>
          <a:xfrm rot="20790600">
            <a:off x="4876560" y="396252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3" name="WordArt 10" descr=""/>
          <p:cNvPicPr/>
          <p:nvPr/>
        </p:nvPicPr>
        <p:blipFill>
          <a:blip r:embed="rId3"/>
          <a:stretch/>
        </p:blipFill>
        <p:spPr>
          <a:xfrm>
            <a:off x="7004160" y="182232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344" name="Line 11"/>
          <p:cNvSpPr/>
          <p:nvPr/>
        </p:nvSpPr>
        <p:spPr>
          <a:xfrm>
            <a:off x="914400" y="1523880"/>
            <a:ext cx="73152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2"/>
          <p:cNvPicPr/>
          <p:nvPr/>
        </p:nvPicPr>
        <p:blipFill>
          <a:blip r:embed="rId1"/>
          <a:stretch/>
        </p:blipFill>
        <p:spPr>
          <a:xfrm>
            <a:off x="0" y="533520"/>
            <a:ext cx="5079960" cy="6095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4"/>
          <p:cNvPicPr/>
          <p:nvPr/>
        </p:nvPicPr>
        <p:blipFill>
          <a:blip r:embed="rId2"/>
          <a:stretch/>
        </p:blipFill>
        <p:spPr>
          <a:xfrm>
            <a:off x="5257800" y="457200"/>
            <a:ext cx="363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5" descr="1"/>
          <p:cNvPicPr/>
          <p:nvPr/>
        </p:nvPicPr>
        <p:blipFill>
          <a:blip r:embed="rId1"/>
          <a:stretch/>
        </p:blipFill>
        <p:spPr>
          <a:xfrm>
            <a:off x="152280" y="762120"/>
            <a:ext cx="4267440" cy="6095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3"/>
          <p:cNvPicPr/>
          <p:nvPr/>
        </p:nvPicPr>
        <p:blipFill>
          <a:blip r:embed="rId2"/>
          <a:stretch/>
        </p:blipFill>
        <p:spPr>
          <a:xfrm>
            <a:off x="4495680" y="838080"/>
            <a:ext cx="4343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hh"/>
          <p:cNvPicPr/>
          <p:nvPr/>
        </p:nvPicPr>
        <p:blipFill>
          <a:blip r:embed="rId1"/>
          <a:stretch/>
        </p:blipFill>
        <p:spPr>
          <a:xfrm>
            <a:off x="5334120" y="838080"/>
            <a:ext cx="3657600" cy="5791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h"/>
          <p:cNvPicPr/>
          <p:nvPr/>
        </p:nvPicPr>
        <p:blipFill>
          <a:blip r:embed="rId2"/>
          <a:stretch/>
        </p:blipFill>
        <p:spPr>
          <a:xfrm>
            <a:off x="152280" y="838080"/>
            <a:ext cx="5181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xxxx"/>
          <p:cNvPicPr/>
          <p:nvPr/>
        </p:nvPicPr>
        <p:blipFill>
          <a:blip r:embed="rId1"/>
          <a:stretch/>
        </p:blipFill>
        <p:spPr>
          <a:xfrm>
            <a:off x="4724280" y="380880"/>
            <a:ext cx="4267440" cy="6477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x"/>
          <p:cNvPicPr/>
          <p:nvPr/>
        </p:nvPicPr>
        <p:blipFill>
          <a:blip r:embed="rId2"/>
          <a:stretch/>
        </p:blipFill>
        <p:spPr>
          <a:xfrm>
            <a:off x="0" y="0"/>
            <a:ext cx="4572000" cy="38862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xx"/>
          <p:cNvPicPr/>
          <p:nvPr/>
        </p:nvPicPr>
        <p:blipFill>
          <a:blip r:embed="rId3"/>
          <a:stretch/>
        </p:blipFill>
        <p:spPr>
          <a:xfrm>
            <a:off x="0" y="3886200"/>
            <a:ext cx="4800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457200" y="4572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b. Read the first paragraph of Hansel and Gretel. Think about how the fairy tale will continue. Then read the rest of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2344320" y="2666880"/>
            <a:ext cx="42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华文琥珀"/>
                <a:ea typeface="华文琥珀"/>
              </a:rPr>
              <a:t>Hansel and Gre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533520" y="3657600"/>
            <a:ext cx="7696080" cy="2531160"/>
          </a:xfrm>
          <a:prstGeom prst="rect">
            <a:avLst/>
          </a:prstGeom>
          <a:solidFill>
            <a:srgbClr val="baf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ing Out the Tex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efore you read, decide what kind of text it is. Is it a letter, a play, a short story or something el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6" descr="Section B-2b"/>
          <p:cNvPicPr/>
          <p:nvPr/>
        </p:nvPicPr>
        <p:blipFill>
          <a:blip r:embed="rId1"/>
          <a:stretch/>
        </p:blipFill>
        <p:spPr>
          <a:xfrm>
            <a:off x="6629400" y="2438280"/>
            <a:ext cx="2228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609480" y="1371600"/>
            <a:ext cx="830592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 and Gretel lived near a forest with their father and stepmother. One year, the weather was so dry that no food would grow. The wife told her husband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 left the children to die in the forest, the whole family would die. Gretel heard this, and Hans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ade a pl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to save himself and his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810800" y="609480"/>
            <a:ext cx="42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584d3"/>
                </a:solidFill>
                <a:latin typeface="华文琥珀"/>
                <a:ea typeface="华文琥珀"/>
              </a:rPr>
              <a:t>Hansel and Gre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7" descr="la8"/>
          <p:cNvPicPr/>
          <p:nvPr/>
        </p:nvPicPr>
        <p:blipFill>
          <a:blip r:embed="rId1"/>
          <a:stretch/>
        </p:blipFill>
        <p:spPr>
          <a:xfrm>
            <a:off x="7086600" y="533520"/>
            <a:ext cx="839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533520" y="1066680"/>
            <a:ext cx="815328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O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Did you hear our stepmothe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ning to kill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on’t wor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! I have a plan to sav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How can you sav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Be quiet! I’m going outside to ge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thing in the moonlight. Now, go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 sleep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810960" y="838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609480" y="1143000"/>
            <a:ext cx="807732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TW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fe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lazy child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usband: Yes, dears. You must come with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 to the forest to get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fe: Here’s some bread. Don’t eat it unt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get to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4345200" y="914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457200" y="83808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THREE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Hansel, what are you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I’m dropping white stones along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ay. Unless I do, we’ll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night, when the moon is shin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right, we'll be able to see the st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573440" y="838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5"/>
          <p:cNvSpPr/>
          <p:nvPr/>
        </p:nvSpPr>
        <p:spPr>
          <a:xfrm>
            <a:off x="292680" y="762120"/>
            <a:ext cx="864972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FOUR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fe: You bad children! What a long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slept in the for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usband: We thought you were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m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fe: Now, go to bed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you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ke u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 must go to the forest with your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What, again? I want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o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ok 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fe: No. You can’t go ou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345200" y="685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914400" y="12193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An old man tried to move the mounta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3276720" y="4419720"/>
            <a:ext cx="2971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Section B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457200" y="228600"/>
            <a:ext cx="800100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FIVE: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What can we do? You have no mo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I'll drop pieces of bread. As soon a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oon rises, we can follow them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33520" y="3505320"/>
            <a:ext cx="84582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SIX: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I can’t see any bread on the gr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ybe it was the bi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Never mind!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Just keep walking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 do, we won’t find our way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4725720" y="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4421160" y="3276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380880" y="685800"/>
            <a:ext cx="853452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SEV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Hansel, we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all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Listen! That bird’s song is so beauti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at we should foll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: Look! It’s leading us to that wonderf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u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ade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bread, cake and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ansel: Let’s eat part of the hou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Then they hear an old woman's voice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side the house.) Voice: Who is that? Who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rave enoug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to eat my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4725720" y="533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457200" y="1523880"/>
            <a:ext cx="830592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children get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children wake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C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children cannot find the pieces of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Gretel learns about Hansel's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E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children surprise the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F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Hansel has to change his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G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The children learn that something bad i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oing to hap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231120" y="457200"/>
            <a:ext cx="84848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c. Match each description below with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correct sc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533520" y="1981080"/>
            <a:ext cx="83055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Why does the wife tell her husband to lea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hildren in the 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What does Hansel go out to 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Why does he do this in the moon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How do Hansel and Gretel find their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Why do Hansel and Gretel get lost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cond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381240" y="609480"/>
            <a:ext cx="796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d. Read the play again and answer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5"/>
          <p:cNvSpPr/>
          <p:nvPr/>
        </p:nvSpPr>
        <p:spPr>
          <a:xfrm>
            <a:off x="457200" y="457200"/>
            <a:ext cx="82296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Why does the wife tell her husband to lea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hildren in the 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447480" y="1600200"/>
            <a:ext cx="835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ecause that year, the weather was so dry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no food would grow. And the family h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ittle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448920" y="3048120"/>
            <a:ext cx="61822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What does Hansel go out to 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990000" y="365760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hite 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450360" y="4114800"/>
            <a:ext cx="72277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Why does he do this in the moon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3"/>
          <p:cNvSpPr/>
          <p:nvPr/>
        </p:nvSpPr>
        <p:spPr>
          <a:xfrm>
            <a:off x="222480" y="4952880"/>
            <a:ext cx="810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ecause when the moon is shining bright,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tones will be white and bright en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04920" y="533520"/>
            <a:ext cx="84582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How do Hansel and Gretel find their 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38760" y="1828800"/>
            <a:ext cx="892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hey left some stones on the way. When the mo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s shining bright, the stones will be brigh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o find the wa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304920" y="3505320"/>
            <a:ext cx="853416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Why do Hansel and Gretel get lost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cond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296280" y="4952880"/>
            <a:ext cx="863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hey left some bread on the way. And the b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4"/>
          <p:cNvSpPr/>
          <p:nvPr/>
        </p:nvSpPr>
        <p:spPr>
          <a:xfrm>
            <a:off x="533520" y="3808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3a. Write some key words from each scene. Then discuss your answers with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685800" y="2286000"/>
            <a:ext cx="74674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plan, kill, save,..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6:  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cene 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2511360" y="29718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et up, forest,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2510640" y="358128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rop, stones, moon, b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2584440" y="4191120"/>
            <a:ext cx="61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ome back, wake up, forest,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2511720" y="480060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read, moon,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2511360" y="541008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an’t, bread, birds,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279160" y="601992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st, song, house, bread, cake,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4"/>
          <p:cNvSpPr/>
          <p:nvPr/>
        </p:nvSpPr>
        <p:spPr>
          <a:xfrm>
            <a:off x="534960" y="533520"/>
            <a:ext cx="77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3b. Complete the summary of the pl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609480" y="1447920"/>
            <a:ext cx="8077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retel heard that their___________ pl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 ______ her and her brother. But Hansel had a plan to _______ himself and his sister. He went to get some white______  before he went to bed that night. The next day, the wife sent the children to the_______. Hansel _______the stones as they walked. Later that night, they could see the stones because of the shining_____. The stones showed them the way home. Hansel wanted to get some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4724280" y="1447920"/>
            <a:ext cx="21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tep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1220760" y="19051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3277080" y="24382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5258520" y="289548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4876920" y="388620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457560" y="4419720"/>
            <a:ext cx="16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ro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1981440" y="533412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5"/>
          <p:cNvSpPr/>
          <p:nvPr/>
        </p:nvSpPr>
        <p:spPr>
          <a:xfrm>
            <a:off x="533520" y="762120"/>
            <a:ext cx="800100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ones, but his stepmother did not let him go out. The next morning, the wife sen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ren to the forest again. Hansel had no stones, so he dropped _______of _____.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______ ate them, so Hansel and Gretel w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 in the forest. They walked until they saw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______made of food. Han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anted to______ the house, but then they heard the voice of an old _______coming from th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4573080" y="251460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6172920" y="24382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1296720" y="30481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1753200" y="36576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3506400" y="4191120"/>
            <a:ext cx="11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1"/>
          <p:cNvSpPr/>
          <p:nvPr/>
        </p:nvSpPr>
        <p:spPr>
          <a:xfrm>
            <a:off x="2667600" y="472428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2"/>
          <p:cNvSpPr/>
          <p:nvPr/>
        </p:nvSpPr>
        <p:spPr>
          <a:xfrm>
            <a:off x="5029560" y="52578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267280" y="404640"/>
            <a:ext cx="41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  <a:ea typeface="宋体"/>
              </a:rPr>
              <a:t>Langu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559800" y="1255680"/>
            <a:ext cx="84607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year, the weather w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r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od would gr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年，天气太干旱了以至于粮食颗粒不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so ...that…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是一个常见的句式结构，即：副词</a:t>
            </a: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形容词或副词</a:t>
            </a: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+ that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引导的句子，表示“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此</a:t>
            </a: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......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以至于</a:t>
            </a:r>
            <a:r>
              <a:rPr b="1" lang="en-US" sz="3200" spc="-1" strike="noStrike">
                <a:solidFill>
                  <a:srgbClr val="4584d3"/>
                </a:solidFill>
                <a:latin typeface="Times New Roman"/>
              </a:rPr>
              <a:t>......”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如本单元中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句子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bird’s song is so beautiful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follo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只鸟的歌声是如此美妙，我们应当跟着它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1676520" y="2438280"/>
            <a:ext cx="4343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ol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 empe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 sil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 under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30400" y="838080"/>
            <a:ext cx="85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1a. Match the words with the letters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pictures in 1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125520" y="2514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049560" y="3200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3049920" y="38862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30495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3"/>
          <p:cNvSpPr/>
          <p:nvPr/>
        </p:nvSpPr>
        <p:spPr>
          <a:xfrm>
            <a:off x="457200" y="1143000"/>
            <a:ext cx="86868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84d3"/>
                </a:solidFill>
                <a:latin typeface="Times New Roman"/>
                <a:ea typeface="宋体"/>
              </a:rPr>
              <a:t>有时这个句式中的</a:t>
            </a:r>
            <a:r>
              <a:rPr b="1" lang="en-US" sz="3200" spc="-1" strike="noStrike">
                <a:solidFill>
                  <a:srgbClr val="4584d3"/>
                </a:solidFill>
                <a:latin typeface="Times New Roman"/>
                <a:ea typeface="宋体"/>
              </a:rPr>
              <a:t>that</a:t>
            </a:r>
            <a:r>
              <a:rPr b="1" lang="zh-CN" sz="3200" spc="-1" strike="noStrike">
                <a:solidFill>
                  <a:srgbClr val="4584d3"/>
                </a:solidFill>
                <a:latin typeface="Times New Roman"/>
                <a:ea typeface="宋体"/>
              </a:rPr>
              <a:t>可以省略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verything happened so quickly I didn’t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to th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切发生得是那么快，我连思考的时间都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4"/>
          <p:cNvSpPr/>
          <p:nvPr/>
        </p:nvSpPr>
        <p:spPr>
          <a:xfrm>
            <a:off x="380880" y="990720"/>
            <a:ext cx="830592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W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thou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you were never com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以为你们再也不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 thought..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人们过去的某种想法、判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断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译作“我们原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；我们本以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”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又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 thought he would come, but he did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原想他会来的，但他却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533520" y="914400"/>
            <a:ext cx="8001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you wake up, you must go to the forest with your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们一醒来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就必须和爸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去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森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表不“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就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再如本单元中这个句子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s soon as the moon rises, we can follow them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月亮一升起来，我们就可以顺着它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面包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4"/>
          <p:cNvSpPr/>
          <p:nvPr/>
        </p:nvSpPr>
        <p:spPr>
          <a:xfrm>
            <a:off x="457200" y="533520"/>
            <a:ext cx="807732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It’s leading us to that wonderful hous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ade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bread, cake and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它在把我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引向那座有面包、蛋糕和糖果做成的美妙房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此句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de of bread, cake and candy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作定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修饰名问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use,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形容词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onderful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也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ouse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定语。在英语中，大部分形容词作定语修饰名词时应前置，短语或句子作定语修饰名词时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后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又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young people in th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屋子里的年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304920" y="380880"/>
            <a:ext cx="85341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完成句子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)______  ______  _______ _______,there was a   famous singer.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从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)Tom ____ _____ in Beijing yesterday morning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迷路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)He _______ ______ _____ a train to Qingdao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or a trip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决定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)Let’s ____  ____ ____ ____ this we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骑车兜风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)The little girl ____  ___ a bag yesterday.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捡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7920" y="106668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Once    upon     a            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1675440" y="21337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ot  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1291320" y="3352680"/>
            <a:ext cx="37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ecided    to       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1746720" y="4495680"/>
            <a:ext cx="38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o      for    a       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2972160" y="57150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picked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-360" y="206064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One day Goldilocks walked into the forest and (1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some flowers. It was very (2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and soon she was lost. She looked (3) 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her, and saw a little house, and she walked (4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it. Then she (5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 on the door, but there was (6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in. She (7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the door and (8) 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the house. There were three (9)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73e87"/>
                </a:solidFill>
                <a:latin typeface="Times New Roman"/>
              </a:rPr>
              <a:t>on the tale, a small one, a big one and a very big on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WordArt 10"/>
          <p:cNvSpPr txBox="1"/>
          <p:nvPr/>
        </p:nvSpPr>
        <p:spPr>
          <a:xfrm>
            <a:off x="468360" y="260280"/>
            <a:ext cx="8280360" cy="63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Times New Roman"/>
              </a:rPr>
              <a:t>Complete the passage with the correct form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6" name="内容占位符 2"/>
          <p:cNvSpPr/>
          <p:nvPr/>
        </p:nvSpPr>
        <p:spPr>
          <a:xfrm>
            <a:off x="755640" y="981000"/>
            <a:ext cx="806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宋体"/>
              </a:rPr>
              <a:t>around       bowl    dark     enter     knock      nobody      pick      push      towar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5"/>
          <p:cNvSpPr/>
          <p:nvPr/>
        </p:nvSpPr>
        <p:spPr>
          <a:xfrm>
            <a:off x="2341440" y="5084640"/>
            <a:ext cx="15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enter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宋体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6"/>
          <p:cNvSpPr/>
          <p:nvPr/>
        </p:nvSpPr>
        <p:spPr>
          <a:xfrm>
            <a:off x="2053440" y="4221000"/>
            <a:ext cx="160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knock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宋体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7"/>
          <p:cNvSpPr/>
          <p:nvPr/>
        </p:nvSpPr>
        <p:spPr>
          <a:xfrm>
            <a:off x="5292720" y="371628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towa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8"/>
          <p:cNvSpPr/>
          <p:nvPr/>
        </p:nvSpPr>
        <p:spPr>
          <a:xfrm>
            <a:off x="4932720" y="4653000"/>
            <a:ext cx="14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push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宋体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9"/>
          <p:cNvSpPr/>
          <p:nvPr/>
        </p:nvSpPr>
        <p:spPr>
          <a:xfrm>
            <a:off x="2558520" y="551664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bowl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宋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10"/>
          <p:cNvSpPr/>
          <p:nvPr/>
        </p:nvSpPr>
        <p:spPr>
          <a:xfrm>
            <a:off x="2777040" y="32846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ar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1"/>
          <p:cNvSpPr/>
          <p:nvPr/>
        </p:nvSpPr>
        <p:spPr>
          <a:xfrm>
            <a:off x="1410120" y="4653000"/>
            <a:ext cx="14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no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2"/>
          <p:cNvSpPr/>
          <p:nvPr/>
        </p:nvSpPr>
        <p:spPr>
          <a:xfrm>
            <a:off x="1697040" y="292428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13"/>
          <p:cNvSpPr/>
          <p:nvPr/>
        </p:nvSpPr>
        <p:spPr>
          <a:xfrm>
            <a:off x="2124000" y="2492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宋体"/>
              </a:rPr>
              <a:t>pick</a:t>
            </a:r>
            <a:r>
              <a:rPr b="1" lang="en-US" sz="3200" spc="-1" strike="noStrike">
                <a:solidFill>
                  <a:srgbClr val="3333ff"/>
                </a:solidFill>
                <a:latin typeface="Calibri"/>
                <a:ea typeface="宋体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2410560" y="981000"/>
            <a:ext cx="29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  <a:ea typeface="宋体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762120" y="2819520"/>
            <a:ext cx="77072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 more fair tales with your classmates and make role pl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1080" y="533520"/>
            <a:ext cx="92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1b. Listen and number the pictures [1-5] in 1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819520" cy="2300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2590920" cy="2187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3"/>
          <a:stretch/>
        </p:blipFill>
        <p:spPr>
          <a:xfrm>
            <a:off x="3124080" y="2895480"/>
            <a:ext cx="2743200" cy="2303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"/>
          <p:cNvPicPr/>
          <p:nvPr/>
        </p:nvPicPr>
        <p:blipFill>
          <a:blip r:embed="rId4"/>
          <a:stretch/>
        </p:blipFill>
        <p:spPr>
          <a:xfrm>
            <a:off x="5943600" y="1447920"/>
            <a:ext cx="2514600" cy="2187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"/>
          <p:cNvPicPr/>
          <p:nvPr/>
        </p:nvPicPr>
        <p:blipFill>
          <a:blip r:embed="rId5"/>
          <a:stretch/>
        </p:blipFill>
        <p:spPr>
          <a:xfrm>
            <a:off x="6095880" y="4038480"/>
            <a:ext cx="2590920" cy="2417760"/>
          </a:xfrm>
          <a:prstGeom prst="rect">
            <a:avLst/>
          </a:prstGeom>
          <a:ln w="0">
            <a:noFill/>
          </a:ln>
        </p:spPr>
      </p:pic>
      <p:sp>
        <p:nvSpPr>
          <p:cNvPr id="359" name="Oval 12"/>
          <p:cNvSpPr/>
          <p:nvPr/>
        </p:nvSpPr>
        <p:spPr>
          <a:xfrm>
            <a:off x="1600200" y="2971800"/>
            <a:ext cx="45720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1602000" y="27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5"/>
          <p:cNvSpPr/>
          <p:nvPr/>
        </p:nvSpPr>
        <p:spPr>
          <a:xfrm>
            <a:off x="7469280" y="5943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6" descr="la8"/>
          <p:cNvPicPr/>
          <p:nvPr/>
        </p:nvPicPr>
        <p:blipFill>
          <a:blip r:embed="rId6"/>
          <a:stretch/>
        </p:blipFill>
        <p:spPr>
          <a:xfrm>
            <a:off x="4343400" y="1219320"/>
            <a:ext cx="600120" cy="7617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7"/>
          <p:cNvSpPr/>
          <p:nvPr/>
        </p:nvSpPr>
        <p:spPr>
          <a:xfrm>
            <a:off x="3202200" y="2819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8"/>
          <p:cNvSpPr/>
          <p:nvPr/>
        </p:nvSpPr>
        <p:spPr>
          <a:xfrm>
            <a:off x="1373400" y="4038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"/>
          <p:cNvSpPr/>
          <p:nvPr/>
        </p:nvSpPr>
        <p:spPr>
          <a:xfrm>
            <a:off x="3826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7317000" y="1295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2320" y="53352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1c. Listen again and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703240" cy="304812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0"/>
          <p:cNvSpPr/>
          <p:nvPr/>
        </p:nvSpPr>
        <p:spPr>
          <a:xfrm>
            <a:off x="3348360" y="1828800"/>
            <a:ext cx="563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story is about an emper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o loved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297000" y="4495680"/>
            <a:ext cx="561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wo ________ came to the 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 make special clothe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empe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3" descr=""/>
          <p:cNvPicPr/>
          <p:nvPr/>
        </p:nvPicPr>
        <p:blipFill>
          <a:blip r:embed="rId2"/>
          <a:stretch/>
        </p:blipFill>
        <p:spPr>
          <a:xfrm>
            <a:off x="5791320" y="3581280"/>
            <a:ext cx="3352680" cy="2808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la8"/>
          <p:cNvPicPr/>
          <p:nvPr/>
        </p:nvPicPr>
        <p:blipFill>
          <a:blip r:embed="rId3"/>
          <a:stretch/>
        </p:blipFill>
        <p:spPr>
          <a:xfrm>
            <a:off x="8077320" y="685800"/>
            <a:ext cx="600120" cy="7621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6"/>
          <p:cNvSpPr/>
          <p:nvPr/>
        </p:nvSpPr>
        <p:spPr>
          <a:xfrm>
            <a:off x="5410440" y="236232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7"/>
          <p:cNvSpPr/>
          <p:nvPr/>
        </p:nvSpPr>
        <p:spPr>
          <a:xfrm>
            <a:off x="1295640" y="449568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228600" y="4419720"/>
            <a:ext cx="5105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the emperor________ at himself, he only ________ his underw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6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352680" cy="29448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7"/>
          <p:cNvSpPr/>
          <p:nvPr/>
        </p:nvSpPr>
        <p:spPr>
          <a:xfrm>
            <a:off x="3733920" y="762120"/>
            <a:ext cx="51814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emperor had to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m silk and gold, but they ________ everything for themselves. They were trying to cheat the empe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8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2895840" cy="25210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9"/>
          <p:cNvSpPr/>
          <p:nvPr/>
        </p:nvSpPr>
        <p:spPr>
          <a:xfrm>
            <a:off x="7467840" y="7621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3886920" y="19810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3810240" y="449568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3734640" y="510552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457200" y="4114800"/>
            <a:ext cx="85345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obody wanted to sound stupid. But suddenly, a young boy________,  “Look! The emperor isn’t ________ any clothe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5486400" cy="33292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6"/>
          <p:cNvSpPr/>
          <p:nvPr/>
        </p:nvSpPr>
        <p:spPr>
          <a:xfrm>
            <a:off x="2743560" y="487692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447920" y="5562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535680" y="1600200"/>
            <a:ext cx="82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1d. Use the pictures in 1c to tell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1241280" y="2666880"/>
            <a:ext cx="650232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Once upon a time, there w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an empero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685800" y="4495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Once upon a time, there was an emperor who loved beautiful clothes. One day, t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rothers came to the c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WordArt 6"/>
          <p:cNvSpPr txBox="1"/>
          <p:nvPr/>
        </p:nvSpPr>
        <p:spPr>
          <a:xfrm>
            <a:off x="2362320" y="609480"/>
            <a:ext cx="4114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Pair Work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533520" y="7621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2a. A fairy tale is an old, traditional story. Do you know what these fairy tales are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1851840" y="2971800"/>
            <a:ext cx="5103360" cy="173988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Sleeping Beau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Cinde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Little Red Riding 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ll</cp:lastModifiedBy>
  <dcterms:modified xsi:type="dcterms:W3CDTF">2016-03-25T02:54:41Z</dcterms:modified>
  <cp:revision>22</cp:revision>
  <dc:subject/>
  <dc:title>PowerPoint 演示文稿</dc:title>
</cp:coreProperties>
</file>